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gif" ContentType="image/gif"/>
  <Override PartName="/ppt/media/image2.gif" ContentType="image/gif"/>
  <Override PartName="/ppt/media/image5.wmf" ContentType="image/x-wmf"/>
  <Override PartName="/ppt/media/image10.png" ContentType="image/png"/>
  <Override PartName="/ppt/media/image3.png" ContentType="image/png"/>
  <Override PartName="/ppt/media/image4.png" ContentType="image/png"/>
  <Override PartName="/ppt/media/image11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gi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7467480" y="0"/>
            <a:ext cx="16765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cc3300"/>
                </a:solidFill>
                <a:latin typeface="Arial"/>
                <a:ea typeface="华文行楷"/>
              </a:rPr>
              <a:t>圆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 flipH="1">
            <a:off x="-360" y="5022720"/>
            <a:ext cx="1849320" cy="1835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4.gif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143000" y="1981080"/>
            <a:ext cx="7162920" cy="2438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24.1.2 </a:t>
            </a: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垂直于弦的直径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2971800" y="838080"/>
            <a:ext cx="335268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</a:rPr>
              <a:t>学习目标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2938680"/>
            <a:ext cx="5562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圆的对称性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通过圆的轴对称性质的学习，理解垂径定理及其推论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能运用垂径定理及其推论进行计算和证明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3048120" y="152280"/>
            <a:ext cx="3276360" cy="1447920"/>
            <a:chOff x="3048120" y="152280"/>
            <a:chExt cx="3276360" cy="1447920"/>
          </a:xfrm>
        </p:grpSpPr>
        <p:sp>
          <p:nvSpPr>
            <p:cNvPr id="45" name=""/>
            <p:cNvSpPr/>
            <p:nvPr/>
          </p:nvSpPr>
          <p:spPr>
            <a:xfrm>
              <a:off x="3048120" y="152280"/>
              <a:ext cx="3276360" cy="144792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276720" y="457200"/>
              <a:ext cx="289548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预习导学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47" name=""/>
          <p:cNvSpPr/>
          <p:nvPr/>
        </p:nvSpPr>
        <p:spPr>
          <a:xfrm>
            <a:off x="890280" y="182808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自学指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03520" y="2437560"/>
            <a:ext cx="4169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自学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研读课本第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页内容，并完成下列问题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0720" y="3124080"/>
            <a:ext cx="75438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圆是轴对称图形，任何一条直径所在的直线都是它的对称轴，它也是中心对称图形，对称中心为圆心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垂直于弦的直径平分弦，并且平分弦所对的两条弧，即一条直线如果满足：①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经过圆心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且与圆交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两点；②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AB⊥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交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于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那么可以推出：③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C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DE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；④               ；⑤               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平分弦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非直径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的直径垂直于弦，并且平分弦所对的两条弧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867280" y="4800600"/>
          <a:ext cx="838440" cy="368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7280" y="4800600"/>
                    <a:ext cx="838440" cy="36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315200" y="4800600"/>
          <a:ext cx="762120" cy="339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315200" y="4800600"/>
                    <a:ext cx="762120" cy="33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550880" y="16758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自学检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3048120" y="152280"/>
            <a:ext cx="3276360" cy="1447920"/>
            <a:chOff x="3048120" y="152280"/>
            <a:chExt cx="3276360" cy="1447920"/>
          </a:xfrm>
        </p:grpSpPr>
        <p:sp>
          <p:nvSpPr>
            <p:cNvPr id="58" name=""/>
            <p:cNvSpPr/>
            <p:nvPr/>
          </p:nvSpPr>
          <p:spPr>
            <a:xfrm>
              <a:off x="3048120" y="152280"/>
              <a:ext cx="3276360" cy="1447920"/>
            </a:xfrm>
            <a:prstGeom prst="horizontalScroll">
              <a:avLst>
                <a:gd name="adj" fmla="val 12500"/>
              </a:avLst>
            </a:pr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 txBox="1"/>
            <p:nvPr/>
          </p:nvSpPr>
          <p:spPr>
            <a:xfrm>
              <a:off x="3276720" y="457200"/>
              <a:ext cx="2895480" cy="838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4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99cc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华文行楷"/>
                </a:rPr>
                <a:t>预习导学</a:t>
              </a:r>
              <a:endParaRPr b="0" lang="en-US" sz="4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  <a:ea typeface="华文行楷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2422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40" y="3056760"/>
            <a:ext cx="241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zh-CN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248400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直径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圆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距离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232280" y="2666880"/>
            <a:ext cx="732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8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3306240"/>
            <a:ext cx="730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直径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圆心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距离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460880" y="353052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440" y="4063320"/>
            <a:ext cx="75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⊙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半径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中点，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96000" y="459756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3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5363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某公园的一石拱桥是圆弧形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劣弧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其跨度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拱的半径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，则拱高为多少米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010280" y="5257800"/>
            <a:ext cx="167652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445560" y="6248520"/>
            <a:ext cx="90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80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02960" y="-185400"/>
            <a:ext cx="3406320" cy="2275920"/>
            <a:chOff x="-102960" y="-185400"/>
            <a:chExt cx="3406320" cy="2275920"/>
          </a:xfrm>
        </p:grpSpPr>
        <p:sp>
          <p:nvSpPr>
            <p:cNvPr id="74" name=""/>
            <p:cNvSpPr/>
            <p:nvPr/>
          </p:nvSpPr>
          <p:spPr>
            <a:xfrm rot="414000">
              <a:off x="0" y="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rot="20757000">
              <a:off x="338040" y="530280"/>
              <a:ext cx="24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" name=""/>
          <p:cNvSpPr/>
          <p:nvPr/>
        </p:nvSpPr>
        <p:spPr>
          <a:xfrm>
            <a:off x="3933720" y="91368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1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916560" y="1980360"/>
            <a:ext cx="72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直径，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⊥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Ｅ为垂足，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求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25280" y="2513520"/>
            <a:ext cx="87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2971080"/>
            <a:ext cx="8534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⊙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半径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是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的动点，则线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长的最小值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最大值为</a:t>
            </a: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5053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819520" y="3517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5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90280" y="4124880"/>
            <a:ext cx="72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知：如图，线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点，且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B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D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705720" y="4800600"/>
            <a:ext cx="2133360" cy="1386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837440" y="4799520"/>
            <a:ext cx="361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⊥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7696080" y="5486400"/>
            <a:ext cx="304920" cy="825480"/>
            <a:chOff x="7696080" y="5486400"/>
            <a:chExt cx="304920" cy="825480"/>
          </a:xfrm>
        </p:grpSpPr>
        <p:sp>
          <p:nvSpPr>
            <p:cNvPr id="87" name=""/>
            <p:cNvSpPr/>
            <p:nvPr/>
          </p:nvSpPr>
          <p:spPr>
            <a:xfrm>
              <a:off x="7772400" y="5486400"/>
              <a:ext cx="0" cy="53352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696080" y="594360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615400" y="5136480"/>
            <a:ext cx="3855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∵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⊥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9" dur="2000" fill="hold"/>
                                        <p:tgtEl>
                                          <p:spTgt spid="7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" dur="80"/>
                                        <p:tgtEl>
                                          <p:spTgt spid="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599000" y="99000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-102960" y="-185400"/>
            <a:ext cx="3406320" cy="2275920"/>
            <a:chOff x="-102960" y="-185400"/>
            <a:chExt cx="3406320" cy="2275920"/>
          </a:xfrm>
        </p:grpSpPr>
        <p:sp>
          <p:nvSpPr>
            <p:cNvPr id="92" name=""/>
            <p:cNvSpPr/>
            <p:nvPr/>
          </p:nvSpPr>
          <p:spPr>
            <a:xfrm rot="414000">
              <a:off x="0" y="0"/>
              <a:ext cx="3200400" cy="1905120"/>
            </a:xfrm>
            <a:prstGeom prst="irregularSeal2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rot="20757000">
              <a:off x="338040" y="530280"/>
              <a:ext cx="2413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0000"/>
                  </a:solidFill>
                  <a:latin typeface="Arial"/>
                  <a:ea typeface="隶书"/>
                </a:rPr>
                <a:t>合作探究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1488600" y="1933560"/>
            <a:ext cx="6175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直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中，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O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度数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那么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弦心距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990720" y="2514600"/>
          <a:ext cx="304560" cy="304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90720" y="2514600"/>
                    <a:ext cx="30456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702080" y="2971800"/>
            <a:ext cx="5622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弓形的弦长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6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弓形的高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这个弓形所在的圆的半径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 u="sng">
                <a:solidFill>
                  <a:srgbClr val="000000"/>
                </a:solidFill>
                <a:uFillTx/>
                <a:latin typeface="Arial"/>
              </a:rPr>
              <a:t>    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990720" y="3429000"/>
                <a:ext cx="217440" cy="42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565200" y="4099320"/>
            <a:ext cx="82738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知：如图，在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为圆心的两个同心圆中，大圆的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小圆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求证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6858000" y="4648320"/>
            <a:ext cx="1752480" cy="14936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482920" y="4937760"/>
            <a:ext cx="306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证明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⊥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7620120" y="5410080"/>
            <a:ext cx="304560" cy="535680"/>
            <a:chOff x="7620120" y="5410080"/>
            <a:chExt cx="304560" cy="535680"/>
          </a:xfrm>
        </p:grpSpPr>
        <p:sp>
          <p:nvSpPr>
            <p:cNvPr id="105" name=""/>
            <p:cNvSpPr/>
            <p:nvPr/>
          </p:nvSpPr>
          <p:spPr>
            <a:xfrm>
              <a:off x="7746840" y="5410080"/>
              <a:ext cx="0" cy="152640"/>
            </a:xfrm>
            <a:prstGeom prst="line">
              <a:avLst/>
            </a:prstGeom>
            <a:ln w="255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0120" y="56386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Arial"/>
                </a:rPr>
                <a:t>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"/>
          <p:cNvSpPr/>
          <p:nvPr/>
        </p:nvSpPr>
        <p:spPr>
          <a:xfrm>
            <a:off x="3040560" y="5212440"/>
            <a:ext cx="2669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C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B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2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22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608400"/>
            <a:ext cx="6937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已知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直径是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5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两条平行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48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求弦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的距离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67508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解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过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作直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⊥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于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直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于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F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∥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⊥C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361240"/>
            <a:ext cx="6248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在点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侧时，如图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连结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则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5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4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由勾股定理知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7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∴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OE+OF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2c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之间距离为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22c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4420440"/>
            <a:ext cx="5410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在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同侧时，如图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连结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则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O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5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0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4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勾股定理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5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7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∴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E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E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即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距离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由①②知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AB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与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CD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之间的距离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2c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8c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6705720" y="2286000"/>
            <a:ext cx="1904760" cy="2044800"/>
            <a:chOff x="6705720" y="2286000"/>
            <a:chExt cx="1904760" cy="2044800"/>
          </a:xfrm>
        </p:grpSpPr>
        <p:pic>
          <p:nvPicPr>
            <p:cNvPr id="113" name="" descr=""/>
            <p:cNvPicPr/>
            <p:nvPr/>
          </p:nvPicPr>
          <p:blipFill>
            <a:blip r:embed="rId2"/>
            <a:stretch/>
          </p:blipFill>
          <p:spPr>
            <a:xfrm>
              <a:off x="6705720" y="2286000"/>
              <a:ext cx="1904760" cy="154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7442280" y="396252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6400800" y="4419720"/>
            <a:ext cx="1828800" cy="1968480"/>
            <a:chOff x="6400800" y="4419720"/>
            <a:chExt cx="1828800" cy="1968480"/>
          </a:xfrm>
        </p:grpSpPr>
        <p:pic>
          <p:nvPicPr>
            <p:cNvPr id="116" name="" descr=""/>
            <p:cNvPicPr/>
            <p:nvPr/>
          </p:nvPicPr>
          <p:blipFill>
            <a:blip r:embed="rId3"/>
            <a:stretch/>
          </p:blipFill>
          <p:spPr>
            <a:xfrm>
              <a:off x="6400800" y="4419720"/>
              <a:ext cx="1828800" cy="150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7086600" y="6019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图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048120" y="1219320"/>
            <a:ext cx="3456000" cy="1079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650320"/>
            <a:ext cx="571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．圆是轴对称图形，任何一条直径所在直线都是它的对称轴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．垂径定理及其推论以及它们的应用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 rot="19938000">
            <a:off x="228240" y="456840"/>
            <a:ext cx="266400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5324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当堂训练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020000" y="4267080"/>
            <a:ext cx="2124000" cy="21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用户</cp:lastModifiedBy>
  <dcterms:modified xsi:type="dcterms:W3CDTF">2013-05-29T08:00:52Z</dcterms:modified>
  <cp:revision>1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